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6096-904D-4958-9180-8DAAC46F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266-3D12-4E52-9434-CCB51FFF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EB7-BE1B-48E3-BD30-6CA334CC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742-B129-4504-9CE5-DEA4AAEE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9E83-D9B2-4ECD-B26D-8571A844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EBAF-58F4-4286-97C8-88376167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BEB3-ADDB-4D71-8B1B-AD3DF57F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6349-F948-44B8-9872-E08CAB6F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B808-9737-423B-BBEA-1D7291A0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45CA-8EAA-4918-AC8B-A4EC4CE7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525C-DD51-44DA-9B11-41F6C996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EC2-67BB-4D61-B8DE-358414CE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E7A4-5E1B-43C6-8277-B76DF013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4B3C-1657-4AE7-901D-40FBB995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E7EB-DBAE-4A47-A678-3425560C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7454-18CE-4BB8-B6DC-EA5E3AC4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3F3C-011E-4DEA-BCFB-5D489858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48792-B53C-45B8-8235-552383AA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2E9C8-F10F-44A5-8CE1-0711B4FD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235C9-3B99-4D05-9D95-F252C75B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A904A-C464-4D99-A3E8-CCED47D7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16256-F316-4C5D-868D-075583A3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8D1B-A9C0-4AFF-BA08-EF88D550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ED74A-E730-4448-A5B9-6D6972F0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27DEE-9A44-49F5-9A9F-ED2F3FCD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CFFB0-79E3-443A-A5B3-DB5549BB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F98E8-B8EB-4E4F-8097-A0CD2F1C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2B99E-3104-4BED-A0FD-A23A22C0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05294-8EFC-4908-91F9-AEFC1C32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ED25E-BFB9-492E-9B46-0D1DC494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89A6A-0B73-4400-8CEB-CB806007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E2CEE-03B8-4089-A218-90AC5E01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28E3C-728C-4877-B7D1-279886F8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18BB-D6F4-48EF-B81A-289D06DF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82E94-82EA-4FFC-BC91-CFD08CAE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07045-8308-436F-9F0E-A88033DC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69430-369A-4EA4-BA88-075EFB3A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E301B-F6F2-46A9-91D9-E0EE470A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52727-708F-43F4-B637-01EB167F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ADE2F-0460-4AF1-8BE4-B34554BB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3FCB6-54A6-45C8-9E4F-042310F5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5B222-8914-46A2-A911-4375D0AE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B8BDA-1938-41F1-BBBF-25391C48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3B361-701A-4752-B3B0-AF860503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803-F494-4076-9F4C-B8DA90FB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2632A-2497-4D88-AEDE-D0375C90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432CA-6D3C-4944-9AC7-4DFA63D9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FC592-EFC3-4235-8D9F-973DDCCF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E8A22-ABBC-4298-96A5-21F64A08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E3A3D-DF86-42F4-9DF7-5A0D7997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7078D-32B8-4D64-9DB8-331B78AF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1E583-1F9E-4E36-A16E-ABD09306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4B0A7-3A7E-4F76-AEBC-20106067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20126-A20E-4998-8FC8-FF5F9CF9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2A671-48FC-448A-915D-EEE9174C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316-E90E-48EB-9E27-84389E04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24CE0-9390-498B-BDFC-F6C8DDF5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1FFF0-0787-4B04-974C-114A2431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01D18-1263-4C59-9C74-DBB617FE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16234-6EFA-4989-9F99-2C158EDD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4D93B-BB28-43D5-92F6-32A39B52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F9EAE-F5A1-4AF3-B7FF-DC2BC5E3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65931-384F-4B73-8164-B3E0B43E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800B9-31E0-4CEA-A4C4-C72AACD7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3A5CA-EDF0-4393-9FC7-E88151AB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C87E1-DFF0-4E31-AF80-21C52AAA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16A-BBA5-4603-A206-72DD0464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80F8D-DF54-42C7-A3C7-19CA60D9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062F4-9471-44FF-AB37-BEAC0EAF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254B4-9C2A-443A-8D9E-04989DBD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AE465-358E-4D05-AC50-9A181F3E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2EB58-BAB3-4732-8499-9FA4F02A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327FE-BE5B-4C57-8D95-93690397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B434B-097D-4EC0-B948-C98014C0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CFDDD-B6DD-4A32-AA0B-BA7C1286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34119-353B-46FA-BA33-ECFD1F16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3E198-1B5D-4EED-90BE-F4EEEE91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D50F-6437-49A1-8C88-0C7FCE41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05644-2C62-4E67-B086-FFF7E3E5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CC4CE-024E-4D9D-A3DE-B6FD2077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F56E8-2BD9-4617-8F6A-21527C2D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B0F57-DE77-45E8-8FF3-E06026D9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FE8FA-7902-4DB6-9C92-7ACA55AB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91CC-2C96-472B-AD22-21B85806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8466-1B3F-4A8F-86B3-082A1A88BF4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C2E5-08D8-488C-825D-8232BA7CE391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F322-06AA-40EB-9CCD-332A601F237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aebde">
                  <a:alpha val="1176"/>
                </a:srgbClr>
              </a:gs>
              <a:gs pos="100000">
                <a:srgbClr val="eaebde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653b"/>
              </a:gs>
              <a:gs pos="100000">
                <a:srgbClr val="a1d1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8c9c1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c1c3b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B5ED-FF41-4800-BBE8-223B8633BCFF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48E8-020E-42E0-8E98-E22475BBAC8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854A-214A-45EA-B07B-EAC50DAE186E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bf9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bf9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376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c0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FC4B-4C5B-436E-AB77-6046FB75AAEE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87;&#1088;&#1077;&#1079;&#1077;&#1085;&#1090;&#1072;&#1094;&#1080;&#1103;%201%20&#1075;&#1083;&#1072;&#1074;&#1085;&#1072;&#1103;.ppt" TargetMode="External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-6480" y="-298440"/>
            <a:ext cx="9156960" cy="25970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3352680" y="5364000"/>
            <a:ext cx="4157640" cy="1500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C:\Documents and Settings\larisa\Мои документы\Мои рисунки\010\42.gif"/>
          <p:cNvPicPr/>
          <p:nvPr/>
        </p:nvPicPr>
        <p:blipFill>
          <a:blip r:embed="rId3"/>
          <a:stretch/>
        </p:blipFill>
        <p:spPr>
          <a:xfrm>
            <a:off x="428760" y="2786040"/>
            <a:ext cx="3357360" cy="2649600"/>
          </a:xfrm>
          <a:prstGeom prst="rect">
            <a:avLst/>
          </a:prstGeom>
          <a:ln w="0">
            <a:noFill/>
          </a:ln>
        </p:spPr>
      </p:pic>
      <p:pic>
        <p:nvPicPr>
          <p:cNvPr id="304" name="музыка ангелов.mp3" descr=""/>
          <p:cNvPicPr/>
          <p:nvPr/>
        </p:nvPicPr>
        <p:blipFill>
          <a:blip r:embed="rId4"/>
          <a:stretch/>
        </p:blipFill>
        <p:spPr>
          <a:xfrm>
            <a:off x="857268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5" descr="C:\Documents and Settings\larisa\Мои документы\Мои рисунки\010\70299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3284640"/>
            <a:ext cx="4357800" cy="338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4" descr="C:\Documents and Settings\larisa\Мои документы\Мои рисунки\010\c64eb7970eb562c7768005891142bfae.gif"/>
          <p:cNvPicPr/>
          <p:nvPr/>
        </p:nvPicPr>
        <p:blipFill>
          <a:blip r:embed="rId3"/>
          <a:stretch/>
        </p:blipFill>
        <p:spPr>
          <a:xfrm>
            <a:off x="3857760" y="1643040"/>
            <a:ext cx="15238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" descr="C:\Documents and Settings\larisa\Мои документы\Мои рисунки\010\0_5733c_3ad1dc64_XL.gif"/>
          <p:cNvPicPr/>
          <p:nvPr/>
        </p:nvPicPr>
        <p:blipFill>
          <a:blip r:embed="rId1"/>
          <a:stretch/>
        </p:blipFill>
        <p:spPr>
          <a:xfrm rot="1171200">
            <a:off x="-129960" y="-127080"/>
            <a:ext cx="1143000" cy="1123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C:\Documents and Settings\larisa\Мои документы\Мои рисунки\010\0_6618f_5474813d_XL.gif"/>
          <p:cNvPicPr/>
          <p:nvPr/>
        </p:nvPicPr>
        <p:blipFill>
          <a:blip r:embed="rId2"/>
          <a:stretch/>
        </p:blipFill>
        <p:spPr>
          <a:xfrm rot="850800">
            <a:off x="-229680" y="5800680"/>
            <a:ext cx="1433520" cy="1217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1" descr="C:\Documents and Settings\larisa\Мои документы\Мои рисунки\010\2953723-c5e56761f7e9a460.gif"/>
          <p:cNvPicPr/>
          <p:nvPr/>
        </p:nvPicPr>
        <p:blipFill>
          <a:blip r:embed="rId3"/>
          <a:stretch/>
        </p:blipFill>
        <p:spPr>
          <a:xfrm rot="13569600">
            <a:off x="8162640" y="573372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3" descr="C:\Documents and Settings\larisa\Мои документы\Мои рисунки\010\butterfly5.gif"/>
          <p:cNvPicPr/>
          <p:nvPr/>
        </p:nvPicPr>
        <p:blipFill>
          <a:blip r:embed="rId4"/>
          <a:stretch/>
        </p:blipFill>
        <p:spPr>
          <a:xfrm flipH="1" rot="13500000">
            <a:off x="7997760" y="29880"/>
            <a:ext cx="113364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1111E-006 L 0.90365 -1.11111E-006 E">
                                      <p:cBhvr>
                                        <p:cTn id="16" dur="5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500"/>
                            </p:stCondLst>
                            <p:childTnLst>
                              <p:par>
                                <p:cTn id="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28 -0.01875 L 0.02743 0.82963 E">
                                      <p:cBhvr>
                                        <p:cTn id="25" dur="5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92934 0.00185 E">
                                      <p:cBhvr>
                                        <p:cTn id="34" dur="5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59259E-006 L 8.33333E-007 -0.88588 E">
                                      <p:cBhvr>
                                        <p:cTn id="43" dur="5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0" descr="C:\Documents and Settings\larisa\Мои документы\Мои рисунки\010\1063862etmec3apfe.gif"/>
          <p:cNvPicPr/>
          <p:nvPr/>
        </p:nvPicPr>
        <p:blipFill>
          <a:blip r:embed="rId1"/>
          <a:stretch/>
        </p:blipFill>
        <p:spPr>
          <a:xfrm>
            <a:off x="3571920" y="5286240"/>
            <a:ext cx="1493640" cy="1571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C:\Documents and Settings\larisa\Мои документы\Мои рисунки\010\1063862etmec3apfe.gif"/>
          <p:cNvPicPr/>
          <p:nvPr/>
        </p:nvPicPr>
        <p:blipFill>
          <a:blip r:embed="rId2"/>
          <a:stretch/>
        </p:blipFill>
        <p:spPr>
          <a:xfrm flipH="1" rot="10800000">
            <a:off x="3571920" y="0"/>
            <a:ext cx="1493640" cy="1571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C:\Documents and Settings\larisa\Мои документы\Мои рисунки\010\1063862etmec3apfe.gif"/>
          <p:cNvPicPr/>
          <p:nvPr/>
        </p:nvPicPr>
        <p:blipFill>
          <a:blip r:embed="rId3"/>
          <a:stretch/>
        </p:blipFill>
        <p:spPr>
          <a:xfrm>
            <a:off x="3571920" y="5286240"/>
            <a:ext cx="1493640" cy="15717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C:\Documents and Settings\larisa\Мои документы\Мои рисунки\010\1063862etmec3apfe.gif"/>
          <p:cNvPicPr/>
          <p:nvPr/>
        </p:nvPicPr>
        <p:blipFill>
          <a:blip r:embed="rId4"/>
          <a:stretch/>
        </p:blipFill>
        <p:spPr>
          <a:xfrm flipH="1" rot="10800000">
            <a:off x="3571920" y="0"/>
            <a:ext cx="149364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3333E-006 L -2.22222E-006 -0.76343 E">
                                      <p:cBhvr>
                                        <p:cTn id="56" dur="5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500"/>
                            </p:stCondLst>
                            <p:childTnLst>
                              <p:par>
                                <p:cTn id="6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.0074 L 0.00417 0.78125 E">
                                      <p:cBhvr>
                                        <p:cTn id="66" dur="5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3333E-006 L -2.22222E-006 -0.76343 E">
                                      <p:cBhvr>
                                        <p:cTn id="76" dur="5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.0074 L 0.00417 0.78125 E">
                                      <p:cBhvr>
                                        <p:cTn id="86" dur="5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2500"/>
                            </p:stCondLst>
                            <p:childTnLst>
                              <p:par>
                                <p:cTn id="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6" descr="C:\Documents and Settings\larisa\Мои документы\Мои рисунки\010\42ed6c0698d6.gif"/>
          <p:cNvPicPr/>
          <p:nvPr/>
        </p:nvPicPr>
        <p:blipFill>
          <a:blip r:embed="rId1"/>
          <a:stretch/>
        </p:blipFill>
        <p:spPr>
          <a:xfrm rot="7980000">
            <a:off x="-51480" y="51480"/>
            <a:ext cx="1203480" cy="11001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C:\Documents and Settings\larisa\Мои документы\Мои рисунки\010\42ed6c0698d6.gif"/>
          <p:cNvPicPr/>
          <p:nvPr/>
        </p:nvPicPr>
        <p:blipFill>
          <a:blip r:embed="rId2"/>
          <a:stretch/>
        </p:blipFill>
        <p:spPr>
          <a:xfrm rot="18649200">
            <a:off x="7923240" y="5492520"/>
            <a:ext cx="1203120" cy="11016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C:\Documents and Settings\larisa\Мои документы\Мои рисунки\010\42ed6c0698d6.gif"/>
          <p:cNvPicPr/>
          <p:nvPr/>
        </p:nvPicPr>
        <p:blipFill>
          <a:blip r:embed="rId3"/>
          <a:stretch/>
        </p:blipFill>
        <p:spPr>
          <a:xfrm rot="13384200">
            <a:off x="7728120" y="26208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C:\Documents and Settings\larisa\Мои документы\Мои рисунки\010\42ed6c0698d6.gif"/>
          <p:cNvPicPr/>
          <p:nvPr/>
        </p:nvPicPr>
        <p:blipFill>
          <a:blip r:embed="rId4"/>
          <a:stretch/>
        </p:blipFill>
        <p:spPr>
          <a:xfrm rot="3600000">
            <a:off x="176040" y="5511600"/>
            <a:ext cx="120204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38778E-017 L 0.87309 0.82199 E">
                                      <p:cBhvr>
                                        <p:cTn id="100" dur="5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2847 L -0.87326 -0.80093 E">
                                      <p:cBhvr>
                                        <p:cTn id="110" dur="5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-0.85035 0.79814 E">
                                      <p:cBhvr>
                                        <p:cTn id="120" dur="5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48 0.03264 L 0.80416 -0.75023 E">
                                      <p:cBhvr>
                                        <p:cTn id="130" dur="5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C:\Documents and Settings\larisa\Мои документы\Мои рисунки\010\1063858vrw1kwcy85.gif"/>
          <p:cNvPicPr/>
          <p:nvPr/>
        </p:nvPicPr>
        <p:blipFill>
          <a:blip r:embed="rId1"/>
          <a:stretch/>
        </p:blipFill>
        <p:spPr>
          <a:xfrm rot="5400000">
            <a:off x="-156960" y="2585880"/>
            <a:ext cx="1398600" cy="1084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C:\Documents and Settings\larisa\Мои документы\Мои рисунки\010\1063858vrw1kwcy85.gif"/>
          <p:cNvPicPr/>
          <p:nvPr/>
        </p:nvPicPr>
        <p:blipFill>
          <a:blip r:embed="rId2"/>
          <a:stretch/>
        </p:blipFill>
        <p:spPr>
          <a:xfrm rot="16200000">
            <a:off x="7902360" y="2656800"/>
            <a:ext cx="1398600" cy="10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45 0.00833 L 0.88142 0.01041 E">
                                      <p:cBhvr>
                                        <p:cTn id="144" dur="5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500"/>
                            </p:stCondLst>
                            <p:childTnLst>
                              <p:par>
                                <p:cTn id="1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-0.8816 -0.00834 E">
                                      <p:cBhvr>
                                        <p:cTn id="153" dur="5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18" descr="C:\Documents and Settings\larisa\Мои документы\Мои рисунки\010\th_Butterfly-2.gif"/>
          <p:cNvPicPr/>
          <p:nvPr/>
        </p:nvPicPr>
        <p:blipFill>
          <a:blip r:embed="rId1"/>
          <a:stretch/>
        </p:blipFill>
        <p:spPr>
          <a:xfrm>
            <a:off x="7970760" y="2857680"/>
            <a:ext cx="1173240" cy="128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path" presetID="1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0.0169 C -0.10642 -0.27153 -0.26562 -0.43033 -0.44184 -0.43033 C -0.61909 -0.43033 -0.77829 -0.27153 -0.88454 -0.0169 C -0.77829 0.23865 -0.61909 0.40139 -0.44184 0.40139 C -0.26562 0.40139 -0.10642 0.23865 -3.88889E-006 -0.0169 Z">
                                      <p:cBhvr>
                                        <p:cTn id="166" dur="5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7" descr="C:\Documents and Settings\larisa\Мои документы\Мои рисунки\010\wp8993bed4.gif"/>
          <p:cNvPicPr/>
          <p:nvPr/>
        </p:nvPicPr>
        <p:blipFill>
          <a:blip r:embed="rId1"/>
          <a:stretch/>
        </p:blipFill>
        <p:spPr>
          <a:xfrm>
            <a:off x="7926480" y="5786280"/>
            <a:ext cx="1217520" cy="10717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7" descr="C:\Documents and Settings\larisa\Мои документы\Мои рисунки\010\wp8993bed4.gif"/>
          <p:cNvPicPr/>
          <p:nvPr/>
        </p:nvPicPr>
        <p:blipFill>
          <a:blip r:embed="rId2"/>
          <a:stretch/>
        </p:blipFill>
        <p:spPr>
          <a:xfrm rot="14028000">
            <a:off x="7764120" y="259920"/>
            <a:ext cx="1217880" cy="1071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7" descr="C:\Documents and Settings\larisa\Мои документы\Мои рисунки\010\wp8993bed4.gif"/>
          <p:cNvPicPr/>
          <p:nvPr/>
        </p:nvPicPr>
        <p:blipFill>
          <a:blip r:embed="rId3"/>
          <a:stretch/>
        </p:blipFill>
        <p:spPr>
          <a:xfrm>
            <a:off x="0" y="5786280"/>
            <a:ext cx="1217520" cy="10717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7" descr="C:\Documents and Settings\larisa\Мои документы\Мои рисунки\010\wp8993bed4.gif"/>
          <p:cNvPicPr/>
          <p:nvPr/>
        </p:nvPicPr>
        <p:blipFill>
          <a:blip r:embed="rId4"/>
          <a:stretch/>
        </p:blipFill>
        <p:spPr>
          <a:xfrm rot="7748400">
            <a:off x="190080" y="274320"/>
            <a:ext cx="1217520" cy="10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7 L 0.00764 -0.85232 E">
                                      <p:cBhvr>
                                        <p:cTn id="180" dur="5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500"/>
                            </p:stCondLst>
                            <p:childTnLst>
                              <p:par>
                                <p:cTn id="18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35 -0.04653 L -0.84705 0.77847 E">
                                      <p:cBhvr>
                                        <p:cTn id="190" dur="5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40741E-007 L 0.00833 -0.84167 E">
                                      <p:cBhvr>
                                        <p:cTn id="200" dur="5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59259E-006 L 0.85034 0.8294 E">
                                      <p:cBhvr>
                                        <p:cTn id="210" dur="5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2500"/>
                            </p:stCondLst>
                            <p:childTnLst>
                              <p:par>
                                <p:cTn id="2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16" descr="C:\Documents and Settings\larisa\Мои документы\Мои рисунки\010\nasekomoe-3.gif"/>
          <p:cNvPicPr/>
          <p:nvPr/>
        </p:nvPicPr>
        <p:blipFill>
          <a:blip r:embed="rId1"/>
          <a:stretch/>
        </p:blipFill>
        <p:spPr>
          <a:xfrm>
            <a:off x="1928880" y="2142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path" presetID="4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0.45886 -2.59259E-006 L 0.69045 0.41135 L 0.45886 0.81852 L -1.94444E-006 0.81852 L -0.2309 0.41135 L -1.94444E-006 -2.59259E-006 Z">
                                      <p:cBhvr>
                                        <p:cTn id="224" dur="5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5431"/>
            </a:gs>
            <a:gs pos="100000">
              <a:srgbClr val="99a0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C:\Documents and Settings\larisa\Мои документы\Мои рисунки\010\0_48d8_c86774fe_S.gif"/>
          <p:cNvPicPr/>
          <p:nvPr/>
        </p:nvPicPr>
        <p:blipFill>
          <a:blip r:embed="rId1"/>
          <a:stretch/>
        </p:blipFill>
        <p:spPr>
          <a:xfrm>
            <a:off x="571680" y="42876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C:\Documents and Settings\larisa\Мои документы\Мои рисунки\010\92d5b6957a108475aa848ac4a8d9f18c.gif"/>
          <p:cNvPicPr/>
          <p:nvPr/>
        </p:nvPicPr>
        <p:blipFill>
          <a:blip r:embed="rId2"/>
          <a:stretch/>
        </p:blipFill>
        <p:spPr>
          <a:xfrm>
            <a:off x="7072200" y="714240"/>
            <a:ext cx="1474920" cy="12146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5" descr="C:\Documents and Settings\larisa\Мои документы\Мои рисунки\010\c35504a73e592a292c069103d421a426.gif"/>
          <p:cNvPicPr/>
          <p:nvPr/>
        </p:nvPicPr>
        <p:blipFill>
          <a:blip r:embed="rId3"/>
          <a:stretch/>
        </p:blipFill>
        <p:spPr>
          <a:xfrm>
            <a:off x="3786120" y="271476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C:\Documents and Settings\larisa\Мои документы\Мои рисунки\010\83676x0dy510sh2.gif"/>
          <p:cNvPicPr/>
          <p:nvPr/>
        </p:nvPicPr>
        <p:blipFill>
          <a:blip r:embed="rId4"/>
          <a:stretch/>
        </p:blipFill>
        <p:spPr>
          <a:xfrm>
            <a:off x="357120" y="5143680"/>
            <a:ext cx="1544760" cy="13809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C:\Documents and Settings\larisa\Мои документы\Мои рисунки\010\58331618_0_ff1f_fc6c10db_L.gif"/>
          <p:cNvPicPr/>
          <p:nvPr/>
        </p:nvPicPr>
        <p:blipFill>
          <a:blip r:embed="rId5"/>
          <a:stretch/>
        </p:blipFill>
        <p:spPr>
          <a:xfrm>
            <a:off x="6929280" y="5000760"/>
            <a:ext cx="1714680" cy="13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500"/>
                            </p:stCondLst>
                            <p:childTnLst>
                              <p:par>
                                <p:cTn id="247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7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7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8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500"/>
                            </p:stCondLst>
                            <p:childTnLst>
                              <p:par>
                                <p:cTn id="277" nodeType="afterEffect" fill="hold" presetClass="emph" presetID="35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0"/>
                            </p:stCondLst>
                            <p:childTnLst>
                              <p:par>
                                <p:cTn id="2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14:57:41Z</dcterms:created>
  <dc:creator>User LC</dc:creator>
  <dc:description/>
  <dc:language>en-US</dc:language>
  <cp:lastModifiedBy>Vlad</cp:lastModifiedBy>
  <dcterms:modified xsi:type="dcterms:W3CDTF">2014-03-07T20:01:15Z</dcterms:modified>
  <cp:revision>35</cp:revision>
  <dc:subject/>
  <dc:title>Слайд 1</dc:title>
</cp:coreProperties>
</file>